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2B5-7EF0-4C42-8A3B-F2B6124C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7A7-1530-4216-B232-6AA409EB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811-9851-4824-8F96-8DCF49A4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21B-2C30-40AB-8A96-E66EA7CE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FBC0-946F-48CB-BFFE-16EF46FE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8E9C-6CD1-47FD-8659-4C528611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8AB-38C9-417B-BFC2-DB7E41A6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5C0E-38E5-4FA9-A9D9-4FF3FFF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52D-2206-4922-B615-6E57E4B3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FDE7-90ED-422A-9FE3-B009C0A3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420E-34DA-4F35-B110-8FACCA5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A37-593F-48B9-9775-20057015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575-D749-4B83-A22A-802CDFDE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DC87-ED6C-4127-B92F-4114688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55D3-77EF-4A6F-B726-8D29769F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7541-867B-47FA-9850-70057F79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203C-E9F5-409D-9870-BDA3D6E9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8A9-BB88-4797-AA81-956A59C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3C4-3628-4EA5-B326-22F39ED7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629-7EE9-432B-9D08-C7FCF5D8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2DC-8E2A-4C79-AC8F-95308EB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3D1-D1AF-4D6A-BFE5-01AB80B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F34-7A40-4EBB-AA9B-915C606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25B-7B75-4E3A-8BC5-6BCF9D5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983-1106-41C1-B6C1-44537EF76B8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B07E-20DB-43C5-92C6-770DA6926E6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INVERSA UNEI MATRI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NOŢIUNI TEORETI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56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Comic Sans MS"/>
              </a:rPr>
              <a:t>DEFINIŢIE: </a:t>
            </a:r>
            <a:r>
              <a:rPr b="1" lang="ro-RO" sz="2800" spc="-1" strike="noStrike">
                <a:solidFill>
                  <a:srgbClr val="ffffff"/>
                </a:solidFill>
                <a:latin typeface="Comic Sans MS"/>
              </a:rPr>
              <a:t>O matrice             este inversabilă dacă există o altă m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ro-RO" sz="2800" spc="-1" strike="noStrike">
                <a:solidFill>
                  <a:srgbClr val="ffffff"/>
                </a:solidFill>
                <a:latin typeface="Comic Sans MS"/>
              </a:rPr>
              <a:t>ic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1" lang="ro-RO" sz="2800" spc="-1" strike="noStrike">
                <a:solidFill>
                  <a:srgbClr val="ffffff"/>
                </a:solidFill>
                <a:latin typeface="Comic Sans MS"/>
              </a:rPr>
              <a:t>astfel încât  AB = BA =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EOREMA:</a:t>
            </a:r>
            <a:r>
              <a:rPr b="1" i="1" lang="ro-RO" sz="2800" spc="-1" strike="noStrike">
                <a:solidFill>
                  <a:srgbClr val="ffffff"/>
                </a:solidFill>
                <a:latin typeface="Comic Sans MS"/>
              </a:rPr>
              <a:t> O matrice             este inversabilă dacă şi numai dacă det (A)   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1844640"/>
                <a:ext cx="1760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55640" y="2781360"/>
                <a:ext cx="170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732720" y="2781360"/>
                <a:ext cx="417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643280" y="3284640"/>
                <a:ext cx="17607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308720" y="3789360"/>
                <a:ext cx="392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TERMINAREA INVERSEI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0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calculeaz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ă det ( A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acă det (A )       0, se trece la pasul 2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2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 determină matricea transpus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299736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771640" y="4724280"/>
                <a:ext cx="79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3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 determină matricea adjunct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unde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4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1484280"/>
                <a:ext cx="1366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2205000"/>
                <a:ext cx="2376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3933720"/>
                <a:ext cx="26636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EXEMPL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ă se determine inversa matrice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68360" y="2565360"/>
                <a:ext cx="35928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1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det (A) = 2 + 1 = 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2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700280"/>
                <a:ext cx="3384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79640" y="3141720"/>
                <a:ext cx="22320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60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3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tunci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42920" y="1052640"/>
                <a:ext cx="446580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57440" y="3573360"/>
                <a:ext cx="25876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532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4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87280" y="1484280"/>
                <a:ext cx="43214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EXERCIŢIU INDIVIDUAL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ă se verifice dacă următoare matrice este inversabilă şi în caz afirmativ să se determine inversa sa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68360" y="3357720"/>
                <a:ext cx="4059360" cy="22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42:09Z</dcterms:created>
  <dc:creator>cursant</dc:creator>
  <dc:description/>
  <dc:language>en-US</dc:language>
  <cp:lastModifiedBy>cursant</cp:lastModifiedBy>
  <dcterms:modified xsi:type="dcterms:W3CDTF">2010-09-08T05:18:54Z</dcterms:modified>
  <cp:revision>10</cp:revision>
  <dc:subject/>
  <dc:title>INVERSA UNEI MATRICE</dc:title>
</cp:coreProperties>
</file>